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16.wmf" ContentType="image/x-wmf"/>
  <Override PartName="/ppt/media/image8.png" ContentType="image/png"/>
  <Override PartName="/ppt/media/image13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9.png" ContentType="image/png"/>
  <Override PartName="/ppt/media/image1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5600" y="1197000"/>
            <a:ext cx="86342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5600" y="3735360"/>
            <a:ext cx="86342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5600" y="1197000"/>
            <a:ext cx="42134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97000"/>
            <a:ext cx="42134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5600" y="3735360"/>
            <a:ext cx="42134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735360"/>
            <a:ext cx="42134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5600" y="1197000"/>
            <a:ext cx="277992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4840" y="1197000"/>
            <a:ext cx="277992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7992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5600" y="3735360"/>
            <a:ext cx="277992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4840" y="3735360"/>
            <a:ext cx="277992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080" y="3735360"/>
            <a:ext cx="277992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5600" y="1197000"/>
            <a:ext cx="86342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5600" y="1197000"/>
            <a:ext cx="86342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5600" y="1197000"/>
            <a:ext cx="42134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97000"/>
            <a:ext cx="42134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5600" y="232920"/>
            <a:ext cx="863424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5600" y="1197000"/>
            <a:ext cx="42134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97000"/>
            <a:ext cx="42134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5600" y="3735360"/>
            <a:ext cx="42134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5600" y="1197000"/>
            <a:ext cx="86342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5600" y="1197000"/>
            <a:ext cx="42134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97000"/>
            <a:ext cx="42134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735360"/>
            <a:ext cx="42134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5600" y="1197000"/>
            <a:ext cx="42134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97000"/>
            <a:ext cx="42134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5600" y="3735360"/>
            <a:ext cx="86342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5600" y="1197000"/>
            <a:ext cx="86342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5600" y="3735360"/>
            <a:ext cx="86342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5600" y="1197000"/>
            <a:ext cx="42134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97000"/>
            <a:ext cx="42134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5600" y="3735360"/>
            <a:ext cx="42134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735360"/>
            <a:ext cx="42134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5600" y="1197000"/>
            <a:ext cx="277992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4840" y="1197000"/>
            <a:ext cx="277992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7992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5600" y="3735360"/>
            <a:ext cx="277992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4840" y="3735360"/>
            <a:ext cx="277992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080" y="3735360"/>
            <a:ext cx="277992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55600" y="1197000"/>
            <a:ext cx="86342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5600" y="1197000"/>
            <a:ext cx="86342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5600" y="1197000"/>
            <a:ext cx="42134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97000"/>
            <a:ext cx="42134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5600" y="1197000"/>
            <a:ext cx="86342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55600" y="232920"/>
            <a:ext cx="863424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5600" y="1197000"/>
            <a:ext cx="42134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97000"/>
            <a:ext cx="42134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55600" y="3735360"/>
            <a:ext cx="42134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5600" y="1197000"/>
            <a:ext cx="42134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97000"/>
            <a:ext cx="42134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3735360"/>
            <a:ext cx="42134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5600" y="1197000"/>
            <a:ext cx="42134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97000"/>
            <a:ext cx="42134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55600" y="3735360"/>
            <a:ext cx="86342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600" y="1197000"/>
            <a:ext cx="86342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55600" y="3735360"/>
            <a:ext cx="86342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5600" y="1197000"/>
            <a:ext cx="42134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97000"/>
            <a:ext cx="42134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5600" y="3735360"/>
            <a:ext cx="42134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3735360"/>
            <a:ext cx="42134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5600" y="1197000"/>
            <a:ext cx="277992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4840" y="1197000"/>
            <a:ext cx="277992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7992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55600" y="3735360"/>
            <a:ext cx="277992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4840" y="3735360"/>
            <a:ext cx="277992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4080" y="3735360"/>
            <a:ext cx="277992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55600" y="1197000"/>
            <a:ext cx="86342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5600" y="1197000"/>
            <a:ext cx="86342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5600" y="1197000"/>
            <a:ext cx="42134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97000"/>
            <a:ext cx="42134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5600" y="1197000"/>
            <a:ext cx="42134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0000" y="1197000"/>
            <a:ext cx="42134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55600" y="232920"/>
            <a:ext cx="863424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5600" y="1197000"/>
            <a:ext cx="42134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0000" y="1197000"/>
            <a:ext cx="42134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55600" y="3735360"/>
            <a:ext cx="42134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5600" y="1197000"/>
            <a:ext cx="42134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0000" y="1197000"/>
            <a:ext cx="42134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0000" y="3735360"/>
            <a:ext cx="42134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5600" y="1197000"/>
            <a:ext cx="42134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0000" y="1197000"/>
            <a:ext cx="42134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55600" y="3735360"/>
            <a:ext cx="86342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5600" y="1197000"/>
            <a:ext cx="86342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55600" y="3735360"/>
            <a:ext cx="86342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5600" y="1197000"/>
            <a:ext cx="42134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0000" y="1197000"/>
            <a:ext cx="42134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55600" y="3735360"/>
            <a:ext cx="42134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0000" y="3735360"/>
            <a:ext cx="42134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5600" y="1197000"/>
            <a:ext cx="277992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4840" y="1197000"/>
            <a:ext cx="277992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7992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55600" y="3735360"/>
            <a:ext cx="277992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4840" y="3735360"/>
            <a:ext cx="277992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4080" y="3735360"/>
            <a:ext cx="277992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5600" y="232920"/>
            <a:ext cx="863424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5600" y="1197000"/>
            <a:ext cx="42134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97000"/>
            <a:ext cx="42134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5600" y="3735360"/>
            <a:ext cx="42134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5600" y="1197000"/>
            <a:ext cx="42134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97000"/>
            <a:ext cx="42134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735360"/>
            <a:ext cx="42134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5600" y="1197000"/>
            <a:ext cx="42134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97000"/>
            <a:ext cx="42134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5600" y="3735360"/>
            <a:ext cx="86342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43000" y="6591240"/>
            <a:ext cx="684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784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68A0-AB4C-4CD0-9479-8D6FFF32236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Nokia Siemens Networks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entation / Author /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43000" y="6454800"/>
            <a:ext cx="304488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internal 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55600" y="1197000"/>
            <a:ext cx="86342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0000" indent="-26856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286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5760" indent="-2286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94000" indent="-2286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94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94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837560" y="6243480"/>
            <a:ext cx="10555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7837560" y="6243480"/>
            <a:ext cx="1055520" cy="444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3000" y="6591240"/>
            <a:ext cx="684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784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6540-8DF1-406A-BD14-8914A9C23C9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Nokia Siemens Networks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entation / Author /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000" y="6454800"/>
            <a:ext cx="304488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internal 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49280" algn="ctr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11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57160" algn="ctr">
              <a:lnSpc>
                <a:spcPct val="90000"/>
              </a:lnSpc>
              <a:spcBef>
                <a:spcPts val="675"/>
              </a:spcBef>
              <a:buClr>
                <a:srgbClr val="ff9900"/>
              </a:buClr>
              <a:buSzPct val="110000"/>
              <a:buFont typeface="Arial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265400" algn="ctr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265400">
              <a:spcBef>
                <a:spcPts val="4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265400">
              <a:spcBef>
                <a:spcPts val="4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837560" y="6242040"/>
            <a:ext cx="1055520" cy="446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55600" y="1191960"/>
            <a:ext cx="863424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0000" indent="-268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7788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1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8576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10000"/>
              <a:buFont typeface="Arial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94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94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94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3000" y="6591240"/>
            <a:ext cx="684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784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68C0-3B81-4F22-ACF1-DFFF60BF6E9A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© Nokia Siemens Networks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resentation / Author /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3000" y="6454800"/>
            <a:ext cx="304488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or internal 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7837560" y="6242040"/>
            <a:ext cx="1055520" cy="446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55600" y="1191960"/>
            <a:ext cx="863424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0000" indent="-268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7788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1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8576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10000"/>
              <a:buFont typeface="Arial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94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94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94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3000" y="6591240"/>
            <a:ext cx="684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784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C378-7DEC-4574-B61D-24DDC6A79E2A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© Nokia Siemens Networks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resentation / Author /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3000" y="6454800"/>
            <a:ext cx="304488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or internal 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159520" y="1192320"/>
            <a:ext cx="3600360" cy="15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5600" y="566640"/>
            <a:ext cx="863424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6666"/>
                </a:solidFill>
                <a:uFillTx/>
                <a:latin typeface="Nokia Sans Title SemiBold"/>
              </a:rPr>
              <a:t>Ultrasite internal cabling with out combiner in 1+1+1 and 2+2+2 configuration</a:t>
            </a:r>
            <a:endParaRPr b="1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495440" y="1085760"/>
            <a:ext cx="2305080" cy="4286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172120" y="1081080"/>
            <a:ext cx="2324160" cy="4314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339560" y="5756400"/>
            <a:ext cx="263268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666666"/>
                </a:solidFill>
                <a:latin typeface="Nokia Sans Title SemiBold"/>
              </a:rPr>
              <a:t>1+1+1 without combi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41800" y="5762520"/>
            <a:ext cx="263268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666666"/>
                </a:solidFill>
                <a:latin typeface="Nokia Sans Title SemiBold"/>
              </a:rPr>
              <a:t>2+2+2 without combi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5600" y="566640"/>
            <a:ext cx="863424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6666"/>
                </a:solidFill>
                <a:uFillTx/>
                <a:latin typeface="Nokia Sans Title SemiBold"/>
              </a:rPr>
              <a:t>Ultrasite internal cabling with Triple wide band combiner in 1+1+1 and 2+2+2 configuration</a:t>
            </a:r>
            <a:endParaRPr b="1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41000" y="5756400"/>
            <a:ext cx="252000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666666"/>
                </a:solidFill>
                <a:latin typeface="Nokia Sans Title SemiBold"/>
              </a:rPr>
              <a:t>1+1+1 with triple WC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43240" y="5762520"/>
            <a:ext cx="252000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666666"/>
                </a:solidFill>
                <a:latin typeface="Nokia Sans Title SemiBold"/>
              </a:rPr>
              <a:t>2+2+2 with triple WC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57280" y="1085760"/>
            <a:ext cx="2324160" cy="43052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153040" y="1095480"/>
            <a:ext cx="2266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5600" y="566640"/>
            <a:ext cx="863424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6666"/>
                </a:solidFill>
                <a:uFillTx/>
                <a:latin typeface="Nokia Sans Title SemiBold"/>
              </a:rPr>
              <a:t>Ultrasite internal cabling with Triple wide band combiner in 3+3+3 and 4+4+4 configuration</a:t>
            </a:r>
            <a:endParaRPr b="1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41000" y="5756400"/>
            <a:ext cx="252000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666666"/>
                </a:solidFill>
                <a:latin typeface="Nokia Sans Title SemiBold"/>
              </a:rPr>
              <a:t>3+3+3 with triple WC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43240" y="5762520"/>
            <a:ext cx="252000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666666"/>
                </a:solidFill>
                <a:latin typeface="Nokia Sans Title SemiBold"/>
              </a:rPr>
              <a:t>4+4+4 with triple WC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414440" y="1195560"/>
            <a:ext cx="2333520" cy="42955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081760" y="1166760"/>
            <a:ext cx="240948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5600" y="566640"/>
            <a:ext cx="863424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6666"/>
                </a:solidFill>
                <a:uFillTx/>
                <a:latin typeface="Nokia Sans Title SemiBold"/>
              </a:rPr>
              <a:t>Ultrasite internal cabling with Triple wide band combiner in 6+6+6 configuration</a:t>
            </a:r>
            <a:endParaRPr b="1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8480" y="5737320"/>
            <a:ext cx="379908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666666"/>
                </a:solidFill>
                <a:latin typeface="Nokia Sans Title SemiBold"/>
              </a:rPr>
              <a:t>6+6+6 with triple WCGT ( 1</a:t>
            </a:r>
            <a:r>
              <a:rPr b="1" lang="en-US" sz="1600" spc="-1" strike="noStrike" baseline="30000">
                <a:solidFill>
                  <a:srgbClr val="666666"/>
                </a:solidFill>
                <a:latin typeface="Nokia Sans Title SemiBold"/>
              </a:rPr>
              <a:t>st</a:t>
            </a:r>
            <a:r>
              <a:rPr b="1" lang="en-US" sz="1600" spc="-1" strike="noStrike">
                <a:solidFill>
                  <a:srgbClr val="666666"/>
                </a:solidFill>
                <a:latin typeface="Nokia Sans Title SemiBold"/>
              </a:rPr>
              <a:t> cabin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32680" y="5743440"/>
            <a:ext cx="384300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666666"/>
                </a:solidFill>
                <a:latin typeface="Nokia Sans Title SemiBold"/>
              </a:rPr>
              <a:t>6+6+6 with triple WCGT ( 2</a:t>
            </a:r>
            <a:r>
              <a:rPr b="1" lang="en-US" sz="1600" spc="-1" strike="noStrike" baseline="30000">
                <a:solidFill>
                  <a:srgbClr val="666666"/>
                </a:solidFill>
                <a:latin typeface="Nokia Sans Title SemiBold"/>
              </a:rPr>
              <a:t>nd</a:t>
            </a:r>
            <a:r>
              <a:rPr b="1" lang="en-US" sz="1600" spc="-1" strike="noStrike">
                <a:solidFill>
                  <a:srgbClr val="666666"/>
                </a:solidFill>
                <a:latin typeface="Nokia Sans Title SemiBold"/>
              </a:rPr>
              <a:t> cabin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328760" y="1195560"/>
            <a:ext cx="2276280" cy="42764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991040" y="1176480"/>
            <a:ext cx="234324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993600" y="2803680"/>
            <a:ext cx="716472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TS Site traffic Manag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1674720" y="0"/>
          <a:ext cx="6267600" cy="534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4720" y="0"/>
                    <a:ext cx="6267600" cy="53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577800" y="5486400"/>
            <a:ext cx="747072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Traffic manager configuration will be used for all Ultra site configu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190440" y="382680"/>
          <a:ext cx="8177400" cy="554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382680"/>
                    <a:ext cx="8177400" cy="55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190440" y="409680"/>
          <a:ext cx="8107560" cy="556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409680"/>
                    <a:ext cx="8107560" cy="55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50800" y="587520"/>
            <a:ext cx="748368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(Site wizard, BTS S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01720" y="1751040"/>
            <a:ext cx="7764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04840" y="1863720"/>
            <a:ext cx="7416720" cy="24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spcBef>
                <a:spcPts val="1250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TS software: CX5.0 CD3.0 for Ultra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XM5.0 CD3.0 for Metro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1.1 CD 1.0 for Flexiedge B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te Wizard:     Site wizard 5  CD3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424760" y="3457080"/>
            <a:ext cx="1107360" cy="361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3360" y="355680"/>
            <a:ext cx="716436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Points to 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6560" y="1238400"/>
            <a:ext cx="8172720" cy="57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buClr>
                <a:srgbClr val="ffcc00"/>
              </a:buClr>
              <a:buFont typeface="Nokia Sans SemiBold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SemiBold"/>
              </a:rPr>
              <a:t>BTS Software should be downloaded lo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buClr>
                <a:srgbClr val="ffcc00"/>
              </a:buClr>
              <a:buFont typeface="Nokia Sans SemiBold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SemiBold"/>
              </a:rPr>
              <a:t>There should not be any Alarm (Hardware/ transmission Ala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buClr>
                <a:srgbClr val="ffcc00"/>
              </a:buClr>
              <a:buFont typeface="Nokia Sans SemiBold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SemiBold"/>
              </a:rPr>
              <a:t>RSSI Value should be Verifi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buClr>
                <a:srgbClr val="ffcc00"/>
              </a:buClr>
              <a:buFont typeface="Nokia Sans SemiBold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SemiBold"/>
              </a:rPr>
              <a:t>Transmission Card should be t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buClr>
                <a:srgbClr val="ffcc00"/>
              </a:buClr>
              <a:buFont typeface="Nokia Sans SemiBold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SemiBold"/>
              </a:rPr>
              <a:t>All the Connector should Tight proper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buClr>
                <a:srgbClr val="ff9900"/>
              </a:buClr>
              <a:buSzPct val="110000"/>
              <a:buFont typeface="Nokia Sans SemiBold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SemiBold"/>
              </a:rPr>
              <a:t>Define the TRX TCH, TRX SIG, OMU SIG and EDAP as per the Abis Pl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buClr>
                <a:srgbClr val="ffcc00"/>
              </a:buClr>
              <a:buFont typeface="Nokia Sans SemiBold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SemiBold"/>
              </a:rPr>
              <a:t>Edge/GPRS should be tested in every Se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buClr>
                <a:srgbClr val="ffcc00"/>
              </a:buClr>
              <a:buFont typeface="Nokia Sans SemiBold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SemiBold"/>
              </a:rPr>
              <a:t>Voice Call should be Tested on every TR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buClr>
                <a:srgbClr val="ffcc00"/>
              </a:buClr>
              <a:buFont typeface="Nokia Sans SemiBold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SemiBold"/>
              </a:rPr>
              <a:t>Checking of external alarms at the time of commissio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buClr>
                <a:srgbClr val="ffcc00"/>
              </a:buClr>
              <a:buFont typeface="Nokia Sans SemiBold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SemiBold"/>
              </a:rPr>
              <a:t>BTS Synchronization should be defined proper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buClr>
                <a:srgbClr val="ffcc00"/>
              </a:buClr>
              <a:buFont typeface="Nokia Sans SemiBold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SemiBold"/>
              </a:rPr>
              <a:t>Make sure to disable all unused LIFs / PIF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buClr>
                <a:srgbClr val="ffcc00"/>
              </a:buClr>
              <a:buFont typeface="Nokia Sans SemiBold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6666"/>
                </a:solidFill>
                <a:uFillTx/>
                <a:latin typeface="Arial"/>
              </a:rPr>
              <a:t>Things to be checked Before the Site Commissioning start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5600" y="1197000"/>
            <a:ext cx="86342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110000"/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Please check the length of the power cable and capacity of the power plant. (Verify the Volt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110000"/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E1 Verification till the BSC ET (There Should not be error on E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110000"/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eeder VSWR testing and Return Loss (</a:t>
            </a:r>
            <a:r>
              <a:rPr b="1" i="1" lang="en-US" sz="2000" spc="-1" strike="noStrike">
                <a:solidFill>
                  <a:srgbClr val="e63d08"/>
                </a:solidFill>
                <a:latin typeface="Nokia Sans Wide"/>
              </a:rPr>
              <a:t>If the VSWR is more than 1.3, it is very important to check the feeder end to end. Also perform cable loss measurements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110000"/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onnect Jumper cable to the NSN BTS Top – </a:t>
            </a:r>
            <a:r>
              <a:rPr b="1" i="1" lang="en-US" sz="2000" spc="-1" strike="noStrike">
                <a:solidFill>
                  <a:srgbClr val="e63d08"/>
                </a:solidFill>
                <a:latin typeface="Nokia Sans Wide"/>
              </a:rPr>
              <a:t>Mark the feeders for sector A,B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0000" indent="-26856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110000"/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Arial"/>
              </a:rPr>
              <a:t>Make sure to check all the grounding points before inserting the plug in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0000" indent="-26856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110000"/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Arial"/>
              </a:rPr>
              <a:t>Connect the power supply and check the input voltage at the conne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0000" indent="-26856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110000"/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Arial"/>
              </a:rPr>
              <a:t>Now insert all the cards and do the necessary cabling. Make sure to put on the antistatic b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0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6666"/>
                </a:solidFill>
                <a:uFillTx/>
                <a:latin typeface="Arial"/>
              </a:rPr>
              <a:t>Standalone Installation and Commissioning Checks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5600" y="1197000"/>
            <a:ext cx="86342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70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okia Sans Wide"/>
                <a:ea typeface="Arial"/>
              </a:rPr>
              <a:t>COMMISSIONING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0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okia Sans Wide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0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okia Sans Wide"/>
                <a:ea typeface="Arial"/>
              </a:rPr>
              <a:t>Steps by BTS HW Configu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0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0000" indent="-26856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110000"/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Arial"/>
              </a:rPr>
              <a:t>Run the configuration wizard for standard configuration and then change it according to    the required configu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0000" indent="-26856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110000"/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Arial"/>
              </a:rPr>
              <a:t>Now install Base band cards, Power supply and transmission ca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0000" indent="-26856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110000"/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Arial"/>
              </a:rPr>
              <a:t>Send BTS configuration to BTS. </a:t>
            </a:r>
            <a:r>
              <a:rPr b="1" i="1" lang="en-US" sz="2000" spc="-1" strike="noStrike">
                <a:solidFill>
                  <a:srgbClr val="e63d08"/>
                </a:solidFill>
                <a:latin typeface="Nokia Sans Wide"/>
                <a:ea typeface="Arial"/>
              </a:rPr>
              <a:t>It is very important to set the correct cabling in the BTS HW configurat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0000" indent="-26856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110000"/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Arial"/>
              </a:rPr>
              <a:t>Note down the passive units serial numbers, complete passive units configuration and send to B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0000" indent="-26856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110000"/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Arial"/>
              </a:rPr>
              <a:t>Save the BTS hw configuration file (.hwc) and also passive units configuration file (.hwi)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6666"/>
                </a:solidFill>
                <a:uFillTx/>
                <a:latin typeface="Arial"/>
              </a:rPr>
              <a:t>Standalone Installation and Commissioning Checks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5600" y="1197000"/>
            <a:ext cx="86342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okia Sans Wide"/>
                <a:ea typeface="Times New Roman"/>
              </a:rPr>
              <a:t>Ultra Hub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Arial"/>
              </a:rPr>
              <a:t>Check/write the identifications of the c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Arial"/>
              </a:rPr>
              <a:t>LIF setting, CRC settings for FXC E1 c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Arial"/>
              </a:rPr>
              <a:t>Make sure to disable all unused LIF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okia Sans Wide"/>
                <a:ea typeface="Arial"/>
              </a:rPr>
              <a:t>Configuration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Arial"/>
              </a:rPr>
              <a:t>Check and write the identification name for FXC Units.(Name will be Site 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okia Sans Wide"/>
                <a:ea typeface="Arial"/>
              </a:rPr>
              <a:t>Synchronization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Arial"/>
              </a:rPr>
              <a:t>Set Priority 1,2,3 c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Arial"/>
              </a:rPr>
              <a:t>Select the network topology, chain or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6666"/>
                </a:solidFill>
                <a:uFillTx/>
                <a:latin typeface="Arial"/>
              </a:rPr>
              <a:t>Standalone Installation and Commissioning Checks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5600" y="1197000"/>
            <a:ext cx="86342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okia Sans Wide"/>
                <a:ea typeface="Arial"/>
              </a:rPr>
              <a:t>Traffic Manag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Arial"/>
              </a:rPr>
              <a:t>Define the TRX TCH, TRX SIG, OMU SIG and EDAP as per the Abis Pla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okia Sans Wide"/>
                <a:ea typeface="Arial"/>
              </a:rPr>
              <a:t>Cross connection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Arial"/>
              </a:rPr>
              <a:t>The cross connections for the traffic manager are made automatically. Copy them in the inactive ban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Arial"/>
              </a:rPr>
              <a:t>If the site is in loop, Make sure to reserve the Masking bits for both the directions as per the Transmission/Abis plan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Arial"/>
              </a:rPr>
              <a:t>Bypass all the timeslots/2MBs that are not required for this si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Arial"/>
              </a:rPr>
              <a:t>Now activate the inactive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Arial"/>
              </a:rPr>
              <a:t>Check the alarms, save the node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6666"/>
                </a:solidFill>
                <a:uFillTx/>
                <a:latin typeface="Arial"/>
              </a:rPr>
              <a:t>Standalone Installation and Commissioning Checks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5600" y="1197000"/>
            <a:ext cx="86342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okia Sans Wide"/>
                <a:ea typeface="Times New Roman"/>
              </a:rPr>
              <a:t>FINAL STEPS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0000" indent="-26856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  <a:ea typeface="Times New Roman"/>
              </a:rPr>
              <a:t>Download the BTS SW into the ESMA ca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0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0000" indent="-26856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  <a:ea typeface="Times New Roman"/>
              </a:rPr>
              <a:t>Now proceed to the commissioning and follow the instruc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0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0000" indent="-26856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  <a:ea typeface="Times New Roman"/>
              </a:rPr>
              <a:t>Checking of external alarms at the time of commissioning. </a:t>
            </a:r>
            <a:r>
              <a:rPr b="1" i="1" lang="en-US" sz="2400" spc="-1" strike="noStrike">
                <a:solidFill>
                  <a:srgbClr val="e63d08"/>
                </a:solidFill>
                <a:latin typeface="Nokia Sans Wide"/>
                <a:ea typeface="Times New Roman"/>
              </a:rPr>
              <a:t>The external alarm cable and the connector have to be verified at the time of commiss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6666"/>
                </a:solidFill>
                <a:uFillTx/>
                <a:latin typeface="Arial"/>
              </a:rPr>
              <a:t>Integeration Activities on BTS Site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5600" y="1197000"/>
            <a:ext cx="86342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0000" indent="-26856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Steps 1 - Connecting PCM Cable (Connection between BTS and B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0000" indent="-26856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Step   2- Integration from BSC. Observe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0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6666"/>
                </a:solidFill>
                <a:uFillTx/>
                <a:latin typeface="Arial"/>
              </a:rPr>
              <a:t>Integration Activities on BTS Site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5600" y="1197000"/>
            <a:ext cx="86342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76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Step 1: Connecting Abis cable (10-20 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3840" indent="-36576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heck the loop from DDF at BTS site to FXC Un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3840" indent="-36576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rough connect the Transmission path and check the OMUSIG status “WO”with Engineer at BSC/OSS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tep 2 : Integration from 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3840" indent="-36576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Unlock the BTS site from BSC/O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3840" indent="-36576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erform the call testing on all the TRX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1920" indent="-28872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ll testing should be performed using Net Monitor phon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3840" indent="-36576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3d08"/>
                </a:solidFill>
                <a:latin typeface="Arial Unicode MS"/>
              </a:rPr>
              <a:t>GPRS Testing in every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3840" indent="-36576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heck the external alarms are reporting on BS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3840" indent="-36576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ake sure that there are no alarms in OSS for this site and BTS Manager Window before leaving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3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3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3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3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3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06:12:46Z</dcterms:created>
  <dc:creator>Arya Aditya</dc:creator>
  <dc:description/>
  <cp:keywords/>
  <dc:language>en-US</dc:language>
  <cp:lastModifiedBy>Singh Brajesh</cp:lastModifiedBy>
  <cp:lastPrinted>1998-09-04T08:04:32Z</cp:lastPrinted>
  <dcterms:modified xsi:type="dcterms:W3CDTF">2009-01-22T17:56:57Z</dcterms:modified>
  <cp:revision>36</cp:revision>
  <dc:subject>Nokia Siemens Networks template</dc:subject>
  <dc:title>Slide 1</dc:title>
</cp:coreProperties>
</file>